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12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Click to move the slide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9B8A-3996-4D1E-B762-CE1140C14B9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78018-1080-403C-BA98-20A0755DE90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31B8D-DF44-45CF-B449-AA390596C6B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5E744-5621-4430-A305-66D1F831DCF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34E71-ABDF-4AAF-9128-C0859FF9C1F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0E2C6-ABC9-4A2E-8131-2818DC67537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68F2D-7336-4E58-9EFE-717EB5B64E6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AC3DF-9689-45A1-8C97-09D46B9EEE1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B35B4-69DB-4C73-AF73-6CC88A92019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9E62B-2CB5-4BDA-8FBE-F5CED73AEF4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6D59E-E4DE-4848-9116-FE6A05554D2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FCD86-6FEA-43CF-A356-5BE5EC9F64B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55B16-4E14-4606-A099-78A37B0215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CF499-4FA6-4279-9AB2-CCE857AF33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0E158-1D11-43D3-B261-9D09378A21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304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92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304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480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1BA13-C0B5-42C6-9597-320DC8080B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D9B4C-F249-487C-80A5-736D71F0B9E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08F81-49C3-42D6-9C4D-4070941F02E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E9AE4-8CAF-4814-9466-C1D42277B89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26908-27A4-4167-82F3-54E3F8B54FB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FB9E0-BDB6-4150-B08C-26CBE297785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8920" y="102960"/>
            <a:ext cx="8713800" cy="37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A0CD7-F40C-4330-9D18-69CFAE119D9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DA2EE-88B2-410C-BA67-07CDC35841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B5DB7-BE5F-4CC2-92DA-21333682B6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4BA8F-4B77-4571-8E04-A61845C01F7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BEE6D-59A7-46DF-BFD3-C39CF3A2630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BE200-3A2B-45F2-AE92-12B361F7A34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2682D-5996-48E7-AE27-4C0858D7E8A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7304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9480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5092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7304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9480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69689-4DDA-4085-BC5A-7B3BB09213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755B0-DE8E-454E-80FB-25150011A2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AF8C0-F4FC-4AA6-8CCC-88B4815128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CE295-20D7-496E-9E79-D2B0F1C0A3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8920" y="102960"/>
            <a:ext cx="8713800" cy="37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5482C-5512-4B37-BAEC-2436F83847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B4672-06DF-41A2-A201-3E506F17D4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0E986-DB48-4316-9138-655DADB750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8B1AB-0348-4B74-9FEE-7B58F4B242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8840" y="-93600"/>
            <a:ext cx="2772720" cy="6950160"/>
            <a:chOff x="-7884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ead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5600" y="3922560"/>
              <a:ext cx="889560" cy="719640"/>
              <a:chOff x="7560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2492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8440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792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5084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6840" y="2601000"/>
              <a:ext cx="2687040" cy="3117960"/>
              <a:chOff x="684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9456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1196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6576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9100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1540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60040" y="4055040"/>
                <a:ext cx="1833840" cy="1663920"/>
                <a:chOff x="86004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972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3604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992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75560" y="6174000"/>
              <a:ext cx="790560" cy="634680"/>
              <a:chOff x="47556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2132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932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9420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25080" y="1775880"/>
              <a:ext cx="785160" cy="693360"/>
              <a:chOff x="32508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4708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70128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2392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301760" y="0"/>
              <a:ext cx="546480" cy="581400"/>
              <a:chOff x="130176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30176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5196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9220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4616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9168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3020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b2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556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792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92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ab2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92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924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9168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908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8232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3636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792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9648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1"/>
          </p:nvPr>
        </p:nvSpPr>
        <p:spPr>
          <a:xfrm>
            <a:off x="8100720" y="6243480"/>
            <a:ext cx="86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81E86-B6ED-4A79-B295-FE42DE8B45D2}" type="slidenum">
              <a:rPr b="0" lang="en-GB" sz="2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4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98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2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6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0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4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sldNum" idx="2"/>
          </p:nvPr>
        </p:nvSpPr>
        <p:spPr>
          <a:xfrm>
            <a:off x="7956720" y="6243480"/>
            <a:ext cx="86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D0107-D42A-42A4-8391-9C26AAE8FDB0}" type="slidenum">
              <a:rPr b="0" lang="en-GB" sz="2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SzPct val="85000"/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5.jpe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8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8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8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8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8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8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3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Why are certain farm products produced in particular areas?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547280" y="4221000"/>
            <a:ext cx="61470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7B0DD-0DEE-439E-B535-91B7A8FDC30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People – google earth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1767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e red is dense population and light green is nearly as dense, going to royal blue and pink is definitely thin on the ground!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Can you think of any reasons why a particular place in a particular colour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3"/>
          <a:srcRect l="31742" t="9174" r="21748" b="0"/>
          <a:stretch/>
        </p:blipFill>
        <p:spPr>
          <a:xfrm>
            <a:off x="4660920" y="981000"/>
            <a:ext cx="4160880" cy="587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D2DC9-610F-4CD5-B6E7-5D9B83A5F00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Farming and People – google earth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4176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Is there any kind of farming that you would expect to take place near centres of population? Why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Any that don’t need to be near centres of population  - in the pink bits? Why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3"/>
          <a:srcRect l="31742" t="9174" r="21748" b="0"/>
          <a:stretch/>
        </p:blipFill>
        <p:spPr>
          <a:xfrm>
            <a:off x="4660920" y="981000"/>
            <a:ext cx="4160880" cy="587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DCC00-257C-40B9-880A-9930B957D5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597708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he Question is ….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5689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Why is that type of farming growth where it is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Is it to do with the landscape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Is it to do with the temperature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Or is it to do with the rainfall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Or is it to do with amount of people living nearby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Or is it a combination of all of them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7"/>
          <a:stretch/>
        </p:blipFill>
        <p:spPr>
          <a:xfrm>
            <a:off x="6300720" y="333360"/>
            <a:ext cx="2111400" cy="26956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8"/>
          <a:stretch/>
        </p:blipFill>
        <p:spPr>
          <a:xfrm>
            <a:off x="6659640" y="3500280"/>
            <a:ext cx="1647720" cy="224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37680-48EE-4AA6-AA33-4757E75A212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597708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Doing it step by step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6697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Look at the dark green area – they are sheep and beef cattle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Go back to slide 6 – the climate graph. Also check out the WS – that has split that graph into 3 – one for rainfall – one for winter temps and one for summer temp – anything similar about the climate for all green areas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What about the relief map on slide 7? Anything special there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What about the population density – anything interesting there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5"/>
          <a:stretch/>
        </p:blipFill>
        <p:spPr>
          <a:xfrm>
            <a:off x="6708600" y="333360"/>
            <a:ext cx="2111400" cy="26956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6"/>
          <a:stretch/>
        </p:blipFill>
        <p:spPr>
          <a:xfrm>
            <a:off x="7316640" y="3500280"/>
            <a:ext cx="1648080" cy="224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F56E1-43DC-416F-8C9F-333F055430A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597708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Doing it step by step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6697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Look at the yellow area – that is arable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Go back to slide 6 – the climate graph. – what can you tell me about that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What about the relief map on slide 7? Anything special there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What about the population density – anything interesting there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5"/>
          <a:stretch/>
        </p:blipFill>
        <p:spPr>
          <a:xfrm>
            <a:off x="6708600" y="333360"/>
            <a:ext cx="2111400" cy="26956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6"/>
          <a:stretch/>
        </p:blipFill>
        <p:spPr>
          <a:xfrm>
            <a:off x="7316640" y="3500280"/>
            <a:ext cx="1648080" cy="224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8E0C3-28AF-4325-923F-9686FB8E38B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597708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Doing it step by step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6697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Look at the light green areas – that is dairy cattle – what are they for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Go back to slide 6 – the climate graph. – what can you tell me about that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What about the relief map on slide 7? Anything special there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What about the population density – anything interesting there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5"/>
          <a:stretch/>
        </p:blipFill>
        <p:spPr>
          <a:xfrm>
            <a:off x="6708600" y="333360"/>
            <a:ext cx="2111400" cy="26956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6"/>
          <a:stretch/>
        </p:blipFill>
        <p:spPr>
          <a:xfrm>
            <a:off x="7316640" y="3500280"/>
            <a:ext cx="1648080" cy="224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E64C1-D99A-4B89-ABC9-EF5C89AC17A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597708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Doing it step by step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6697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Look at the brown – that is mixed farming – what is that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Go back to slide 6 – the climate graph. – what can you tell me about that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What about the relief map on slide 7? Anything special there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What about the population density – anything interesting there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5"/>
          <a:stretch/>
        </p:blipFill>
        <p:spPr>
          <a:xfrm>
            <a:off x="6708600" y="333360"/>
            <a:ext cx="2111400" cy="26956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6"/>
          <a:stretch/>
        </p:blipFill>
        <p:spPr>
          <a:xfrm>
            <a:off x="7316640" y="3500280"/>
            <a:ext cx="1648080" cy="224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65584-7043-47B2-8327-9F51848103D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597708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Doing it step by step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6697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Look at the pink – that is market gardening – what does that produce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Go back to slide 6 – the climate graph. – what can you tell me about that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What about the relief map on slide 7? Anything special there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What about the population density – anything interesting there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5"/>
          <a:stretch/>
        </p:blipFill>
        <p:spPr>
          <a:xfrm>
            <a:off x="6708600" y="333360"/>
            <a:ext cx="2111400" cy="26956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6"/>
          <a:stretch/>
        </p:blipFill>
        <p:spPr>
          <a:xfrm>
            <a:off x="7308720" y="3500280"/>
            <a:ext cx="1648080" cy="224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F30F4-36E4-484F-89FB-F5562E330EC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79280" y="102960"/>
            <a:ext cx="583272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Comic Sans MS"/>
              </a:rPr>
              <a:t>What kind of farm would it be?</a:t>
            </a:r>
            <a:endParaRPr b="0" lang="en-US" sz="32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78920" y="1196640"/>
            <a:ext cx="5545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Comic Sans MS"/>
              </a:rPr>
              <a:t>I will tell you what the farm is like.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Comic Sans MS"/>
              </a:rPr>
              <a:t>You tell me what it most likely produced there, using the more detailed map.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3"/>
          <a:srcRect l="0" t="0" r="0" b="4370"/>
          <a:stretch/>
        </p:blipFill>
        <p:spPr>
          <a:xfrm>
            <a:off x="5667480" y="576360"/>
            <a:ext cx="3476520" cy="628164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4"/>
          <a:srcRect l="0" t="4129" r="51804" b="75336"/>
          <a:stretch/>
        </p:blipFill>
        <p:spPr>
          <a:xfrm>
            <a:off x="5867280" y="44280"/>
            <a:ext cx="2922840" cy="187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09815-C5BB-4B0C-8E69-BF3E0D26807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Homework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5689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You will have this map and a link so you can look in more detail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You are told something about the people who are buying the 4 farms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You have to decide what they should produce and explain why. As these are imaginary, there are no correct answers, provided you make a good case for your choice.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4"/>
          <a:stretch/>
        </p:blipFill>
        <p:spPr>
          <a:xfrm>
            <a:off x="6021360" y="981000"/>
            <a:ext cx="2905200" cy="41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7A8E0-6480-4E65-B1B5-33A049CADE5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I know that ….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..many of you guys do not come from the UK.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But the climate is quite different from area to another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And the landscape is variable too – some is flat and some is quite hilly.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For these reasons, what is produced on farms varies quite a lot for such a small place – which makes a good place to look at.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43079-4160-46C4-A7A6-71F020F283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Comic Sans MS"/>
              </a:rPr>
              <a:t>What is produced on farms in the UK</a:t>
            </a:r>
            <a:endParaRPr b="0" lang="en-US" sz="32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42433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is is what is produced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most often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 in these areas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rcRect l="0" t="0" r="7791" b="0"/>
          <a:stretch/>
        </p:blipFill>
        <p:spPr>
          <a:xfrm>
            <a:off x="4572000" y="1268280"/>
            <a:ext cx="3456000" cy="50403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1332000" y="2852640"/>
            <a:ext cx="2095560" cy="280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3EB31-6FC9-449B-9159-211DCCCBF58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rcRect l="0" t="0" r="51804" b="75336"/>
          <a:stretch/>
        </p:blipFill>
        <p:spPr>
          <a:xfrm>
            <a:off x="5292720" y="1711440"/>
            <a:ext cx="3354480" cy="25812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rcRect l="0" t="0" r="0" b="4370"/>
          <a:stretch/>
        </p:blipFill>
        <p:spPr>
          <a:xfrm>
            <a:off x="1417680" y="0"/>
            <a:ext cx="3781440" cy="683100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This is just to show you it not really as clear cut as the other map implies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73A11-C9C4-413E-8772-804790253F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Comic Sans MS"/>
              </a:rPr>
              <a:t>We are now going to work out what we think each types of farm needs</a:t>
            </a:r>
            <a:endParaRPr b="0" lang="en-US" sz="32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42433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is is what is produced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most often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 in these areas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rcRect l="0" t="0" r="7791" b="0"/>
          <a:stretch/>
        </p:blipFill>
        <p:spPr>
          <a:xfrm>
            <a:off x="4427640" y="1268280"/>
            <a:ext cx="3456000" cy="50403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2484360" y="2781360"/>
            <a:ext cx="2333880" cy="35481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 flipH="1">
            <a:off x="2124000" y="3500280"/>
            <a:ext cx="503280" cy="73080"/>
          </a:xfrm>
          <a:prstGeom prst="line">
            <a:avLst/>
          </a:prstGeom>
          <a:ln w="381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2124000" y="4005360"/>
            <a:ext cx="503280" cy="576000"/>
          </a:xfrm>
          <a:prstGeom prst="line">
            <a:avLst/>
          </a:prstGeom>
          <a:ln w="381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64960" y="2508480"/>
            <a:ext cx="1916280" cy="154404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Pastoral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Farming animals that are kept in fields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2680" y="5481000"/>
            <a:ext cx="1797120" cy="3279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Horticulture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2195280" y="5734080"/>
            <a:ext cx="431640" cy="0"/>
          </a:xfrm>
          <a:prstGeom prst="line">
            <a:avLst/>
          </a:prstGeom>
          <a:ln w="381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6AE0B-CDE3-4F21-AB64-8C7AE0778F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250560" y="1052280"/>
            <a:ext cx="42433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76720" y="333360"/>
            <a:ext cx="2087640" cy="614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Cold winters (&lt;5</a:t>
            </a:r>
            <a:r>
              <a:rPr b="0" lang="en-US" sz="2800" spc="-1" strike="noStrike" baseline="30000">
                <a:solidFill>
                  <a:srgbClr val="006699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C) and cool summers and drier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Cold winters and warm summers and drier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324000" y="260280"/>
            <a:ext cx="2663640" cy="61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Mild winters (&gt;5</a:t>
            </a:r>
            <a:r>
              <a:rPr b="0" lang="en-US" sz="2400" spc="-1" strike="noStrike" baseline="30000">
                <a:solidFill>
                  <a:srgbClr val="006699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C) and cool summers (&lt;15</a:t>
            </a:r>
            <a:r>
              <a:rPr b="0" lang="en-US" sz="2400" spc="-1" strike="noStrike" baseline="30000">
                <a:solidFill>
                  <a:srgbClr val="006699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C) &amp; wetter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Mild winters and warm summers (&gt;15</a:t>
            </a:r>
            <a:r>
              <a:rPr b="0" lang="en-US" sz="2400" spc="-1" strike="noStrike" baseline="30000">
                <a:solidFill>
                  <a:srgbClr val="006699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C) and wetter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2130840"/>
            <a:ext cx="2446200" cy="914040"/>
          </a:xfrm>
          <a:prstGeom prst="roundRect">
            <a:avLst>
              <a:gd name="adj" fmla="val 16667"/>
            </a:avLst>
          </a:prstGeom>
          <a:solidFill>
            <a:srgbClr val="d7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If &gt;800 mm it is wet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0920" y="3067920"/>
            <a:ext cx="2487600" cy="1319400"/>
          </a:xfrm>
          <a:prstGeom prst="roundRect">
            <a:avLst>
              <a:gd name="adj" fmla="val 16667"/>
            </a:avLst>
          </a:prstGeom>
          <a:solidFill>
            <a:srgbClr val="d7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Blue line is 5</a:t>
            </a:r>
            <a:r>
              <a:rPr b="0" lang="en-US" sz="2400" spc="-1" strike="noStrike" baseline="30000">
                <a:solidFill>
                  <a:srgbClr val="006699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C Jan line, E is colder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0"/>
          <a:stretch/>
        </p:blipFill>
        <p:spPr>
          <a:xfrm>
            <a:off x="3009960" y="163440"/>
            <a:ext cx="3795480" cy="57135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6443640" y="2468520"/>
            <a:ext cx="2468520" cy="1724760"/>
          </a:xfrm>
          <a:prstGeom prst="roundRect">
            <a:avLst>
              <a:gd name="adj" fmla="val 16667"/>
            </a:avLst>
          </a:prstGeom>
          <a:solidFill>
            <a:srgbClr val="d7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e red line is the 15</a:t>
            </a:r>
            <a:r>
              <a:rPr b="0" lang="en-US" sz="2400" spc="-1" strike="noStrike" baseline="30000">
                <a:solidFill>
                  <a:srgbClr val="006699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C</a:t>
            </a:r>
            <a:r>
              <a:rPr b="0" lang="en-US" sz="2400" spc="-1" strike="noStrike" baseline="30000">
                <a:solidFill>
                  <a:srgbClr val="0066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average July temp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9B550-BB0E-4285-A610-E8C4320935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his is called a relief map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42433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But before we look at the relief or physical map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Let’s just check you know where places are!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4788000" y="765000"/>
            <a:ext cx="3666960" cy="568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49CAE-A9FB-4927-ADAA-5646C6EDA8B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788000" y="1123920"/>
            <a:ext cx="3203640" cy="496908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537000" y="102960"/>
            <a:ext cx="535608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he highest bit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520" y="691920"/>
            <a:ext cx="2535480" cy="57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Cambrian Mountains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Exmoor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Dartmoor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Pennines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Scottish Highlands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Southern Uplands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e Lake District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4788000" y="4060080"/>
            <a:ext cx="431640" cy="652680"/>
          </a:xfrm>
          <a:prstGeom prst="wedgeEllipseCallout">
            <a:avLst>
              <a:gd name="adj1" fmla="val 258083"/>
              <a:gd name="adj2" fmla="val 71166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093080" y="2404440"/>
            <a:ext cx="504720" cy="652680"/>
          </a:xfrm>
          <a:prstGeom prst="wedgeEllipseCallout">
            <a:avLst>
              <a:gd name="adj1" fmla="val -237666"/>
              <a:gd name="adj2" fmla="val 78055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451640" y="3268080"/>
            <a:ext cx="432000" cy="652680"/>
          </a:xfrm>
          <a:prstGeom prst="wedgeEllipseCallout">
            <a:avLst>
              <a:gd name="adj1" fmla="val -241837"/>
              <a:gd name="adj2" fmla="val 73976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11640" y="3052080"/>
            <a:ext cx="431640" cy="652680"/>
          </a:xfrm>
          <a:prstGeom prst="wedgeEllipseCallout">
            <a:avLst>
              <a:gd name="adj1" fmla="val 450333"/>
              <a:gd name="adj2" fmla="val 48893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716360" y="2053440"/>
            <a:ext cx="432000" cy="652680"/>
          </a:xfrm>
          <a:prstGeom prst="wedgeEllipseCallout">
            <a:avLst>
              <a:gd name="adj1" fmla="val 268314"/>
              <a:gd name="adj2" fmla="val 495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995640" y="5860440"/>
            <a:ext cx="432000" cy="652680"/>
          </a:xfrm>
          <a:prstGeom prst="wedgeEllipseCallout">
            <a:avLst>
              <a:gd name="adj1" fmla="val 414277"/>
              <a:gd name="adj2" fmla="val -74805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140360" y="4996800"/>
            <a:ext cx="431640" cy="652680"/>
          </a:xfrm>
          <a:prstGeom prst="wedgeEllipseCallout">
            <a:avLst>
              <a:gd name="adj1" fmla="val 394416"/>
              <a:gd name="adj2" fmla="val 16810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14F51-984C-4714-B871-BD89AA8F650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968720" y="1123920"/>
            <a:ext cx="3203640" cy="49690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537000" y="102960"/>
            <a:ext cx="535608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he lowest bit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80520" y="691920"/>
            <a:ext cx="2535480" cy="57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e central lowlands of Scotland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e Cheshire Plain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e Fens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East Anglia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e Midland Plain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213" name=""/>
          <p:cNvSpPr/>
          <p:nvPr/>
        </p:nvSpPr>
        <p:spPr>
          <a:xfrm>
            <a:off x="4788000" y="4060080"/>
            <a:ext cx="431640" cy="652680"/>
          </a:xfrm>
          <a:prstGeom prst="wedgeEllipseCallout">
            <a:avLst>
              <a:gd name="adj1" fmla="val 473500"/>
              <a:gd name="adj2" fmla="val 85388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317080" y="4420440"/>
            <a:ext cx="504720" cy="652680"/>
          </a:xfrm>
          <a:prstGeom prst="wedgeEllipseCallout">
            <a:avLst>
              <a:gd name="adj1" fmla="val -171949"/>
              <a:gd name="adj2" fmla="val 22379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812000" y="3556800"/>
            <a:ext cx="432000" cy="652680"/>
          </a:xfrm>
          <a:prstGeom prst="wedgeEllipseCallout">
            <a:avLst>
              <a:gd name="adj1" fmla="val -128597"/>
              <a:gd name="adj2" fmla="val 118245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356000" y="2980440"/>
            <a:ext cx="432000" cy="652680"/>
          </a:xfrm>
          <a:prstGeom prst="wedgeEllipseCallout">
            <a:avLst>
              <a:gd name="adj1" fmla="val 491879"/>
              <a:gd name="adj2" fmla="val 160856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788000" y="2259720"/>
            <a:ext cx="431640" cy="652680"/>
          </a:xfrm>
          <a:prstGeom prst="wedgeEllipseCallout">
            <a:avLst>
              <a:gd name="adj1" fmla="val 288916"/>
              <a:gd name="adj2" fmla="val 51046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8C96C-A253-4F95-98C8-526326CF09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5:16:02Z</dcterms:created>
  <dc:creator>Lindy</dc:creator>
  <dc:description/>
  <dc:language>en-US</dc:language>
  <cp:lastModifiedBy>Lindy</cp:lastModifiedBy>
  <dcterms:modified xsi:type="dcterms:W3CDTF">2010-03-05T12:44:35Z</dcterms:modified>
  <cp:revision>8</cp:revision>
  <dc:subject/>
  <dc:title>Why are certain farm products produced in particular areas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